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png" ContentType="image/png"/>
  <Override PartName="/ppt/media/hornturck..wav" ContentType="audio/x-wav"/>
  <Override PartName="/ppt/media/allwrong.wav" ContentType="audio/x-wav"/>
  <Override PartName="/ppt/media/image4.wmf" ContentType="image/x-wmf"/>
  <Override PartName="/ppt/media/image7.jpeg" ContentType="image/jpeg"/>
  <Override PartName="/ppt/media/image6.png" ContentType="image/png"/>
  <Override PartName="/ppt/media/rumble.wav" ContentType="audio/x-wav"/>
  <Override PartName="/ppt/media/image9.jpeg" ContentType="image/jpeg"/>
  <Override PartName="/ppt/media/alarmbuzzer.wav" ContentType="audio/x-wav"/>
  <Override PartName="/ppt/media/image2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3.jpeg" ContentType="image/jpeg"/>
  <Override PartName="/ppt/media/thatsbetr.wav" ContentType="audio/x-wav"/>
  <Override PartName="/ppt/media/image17.wmf" ContentType="image/x-wmf"/>
  <Override PartName="/ppt/media/image12.jpeg" ContentType="image/jpeg"/>
  <Override PartName="/ppt/media/cashreg.wav" ContentType="audio/x-wav"/>
  <Override PartName="/ppt/media/image11.wmf" ContentType="image/x-wmf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0D5-26D3-4A26-9809-2BE306FA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BA1E-9A99-4D0D-B441-47C4E51D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6FEE-5747-4E6B-ABB8-6D0E60E3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A44B-2693-498D-BBD1-9A54E5C1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9A1A-67FA-4524-8B04-727D84833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44C4-F29F-420C-9BEC-CD922AF5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48C3-5248-4209-AC0D-D596444E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8A1E-FA81-490E-B0B1-E67169E3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EF0E-FD2C-455E-AFCA-89272E4F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2145-A4E8-4B96-A9B9-E99AA06B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319A-C474-4A24-B9CF-CF4C10E9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F811-DA9A-4BB4-BBDE-DBC3D73A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B6AB-EAE5-49FD-BBDF-F377B4D7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BF88-EC79-4E47-BEBC-8E5065F3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AC3C-5B8C-470A-B607-94E74B83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2722-EC57-4A61-8DA3-31528F03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A8A1-A954-47A9-87F4-74942B7A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FB8A-6796-4EBC-80F5-32C24CF3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6365-E716-4B83-9492-D6AB6A92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8FAC-67D6-4573-B9A7-1039E687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726D-09FE-47E0-A961-79BBD281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536-9F3F-4533-BC43-502C1DD3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0E43-2092-48FF-9B11-0641A97D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75B3-3E1A-4373-AB6E-0A3CF655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9CF4-6DCE-47FF-89EA-5A09F7EA37A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0A14-72ED-4381-B36D-7520CEB5892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alarmbuzzer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anatee.k12.fl.us/sites/elementary/palmasola/mmbb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rumbl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hornturck.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llwrong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entuckyvirtual.com/shop/uscitemdetail.asp?item=2&amp;stk_code=br06018" TargetMode="External"/><Relationship Id="rId2" Type="http://schemas.openxmlformats.org/officeDocument/2006/relationships/hyperlink" Target="http://www.kentuckyvirtual.com/shop/uscitemdetail.asp?item=2&amp;stk_code=br06018" TargetMode="External"/><Relationship Id="rId3" Type="http://schemas.openxmlformats.org/officeDocument/2006/relationships/image" Target="../media/image12.jpeg"/><Relationship Id="rId4" Type="http://schemas.openxmlformats.org/officeDocument/2006/relationships/audio" Target="../media/thatsbetr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ultiple Meaning Wor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86200" y="3200400"/>
            <a:ext cx="5029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7. The peas were in a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ca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I can do it by myself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Can you help me do the dishe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Mom gave me a can of peanuts for the party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30840" y="507060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80040" y="43084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14480" y="2400480"/>
            <a:ext cx="5315040" cy="2012760"/>
            <a:chOff x="1914480" y="2400480"/>
            <a:chExt cx="5315040" cy="2012760"/>
          </a:xfrm>
        </p:grpSpPr>
        <p:sp>
          <p:nvSpPr>
            <p:cNvPr id="128" name=""/>
            <p:cNvSpPr/>
            <p:nvPr/>
          </p:nvSpPr>
          <p:spPr>
            <a:xfrm>
              <a:off x="1914480" y="2400480"/>
              <a:ext cx="5315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14480" y="2400480"/>
              <a:ext cx="531504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  </a:t>
              </a:r>
              <a:r>
                <a:rPr b="0" lang="en-US" sz="12600" spc="-1" strike="noStrike">
                  <a:solidFill>
                    <a:srgbClr val="eaeaea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                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08576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85760" y="2567160"/>
            <a:ext cx="6972480" cy="1692000"/>
            <a:chOff x="1085760" y="2567160"/>
            <a:chExt cx="6972480" cy="1692000"/>
          </a:xfrm>
        </p:grpSpPr>
        <p:sp>
          <p:nvSpPr>
            <p:cNvPr id="132" name=""/>
            <p:cNvSpPr/>
            <p:nvPr/>
          </p:nvSpPr>
          <p:spPr>
            <a:xfrm>
              <a:off x="1085760" y="2567160"/>
              <a:ext cx="6972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085760" y="2567160"/>
              <a:ext cx="4572000" cy="1692000"/>
              <a:chOff x="1085760" y="2567160"/>
              <a:chExt cx="4572000" cy="1692000"/>
            </a:xfrm>
          </p:grpSpPr>
          <p:sp>
            <p:nvSpPr>
              <p:cNvPr id="134" name=""/>
              <p:cNvSpPr/>
              <p:nvPr/>
            </p:nvSpPr>
            <p:spPr>
              <a:xfrm>
                <a:off x="1085760" y="2567160"/>
                <a:ext cx="4572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085760" y="2567160"/>
                <a:ext cx="4572000" cy="16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10500" spc="-1" strike="noStrike">
                    <a:solidFill>
                      <a:srgbClr val="eaeaea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1800" spc="-1" strike="noStrike">
                    <a:solidFill>
                      <a:srgbClr val="eaeaea"/>
                    </a:solidFill>
                    <a:latin typeface="Arial"/>
                    <a:ea typeface="Arial"/>
                  </a:rPr>
                  <a:t>                               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pic>
        <p:nvPicPr>
          <p:cNvPr id="136" name="" descr="Canned Peas"/>
          <p:cNvPicPr/>
          <p:nvPr/>
        </p:nvPicPr>
        <p:blipFill>
          <a:blip r:embed="rId1"/>
          <a:srcRect l="13798" t="19707" r="47424" b="11396"/>
          <a:stretch/>
        </p:blipFill>
        <p:spPr>
          <a:xfrm>
            <a:off x="6996240" y="380880"/>
            <a:ext cx="1309680" cy="1798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0" t="0" r="0" b="21114"/>
          <a:stretch/>
        </p:blipFill>
        <p:spPr>
          <a:xfrm>
            <a:off x="6324480" y="4343400"/>
            <a:ext cx="2206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8. The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sign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aid do not ent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Please sign your name on the pap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Can you sign the word cat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I read the sign on the wall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54520" y="568008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C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324480" y="4495680"/>
            <a:ext cx="19288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9. I have a new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watch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Did you watch me jump rope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My watch is lost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I don't watch many television shows!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07160" y="583236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B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629400" y="4952880"/>
            <a:ext cx="172548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larm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0. I always receive good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mark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n school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The marks on my report card were great!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My fingers left marks on the glas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I have marks on my clothes where the milk spilled on them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2080" y="5375160"/>
            <a:ext cx="32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A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162920" y="3962520"/>
            <a:ext cx="103320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www.manatee.k12.fl.us/sites/elementary/palmasola/mmbb.ht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057040"/>
            <a:ext cx="76960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Multiple Meaning Words are words that have several meanings depending upon how they are used in a sentence.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69080" y="3581280"/>
            <a:ext cx="3274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 use CONTEXT CLUES to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lp us figure out which mea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 corr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5638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t’s Practi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ad the underlined word in each sentence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oose the sentence in which the word ha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same meaning as in the original sentence.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63400" y="4235400"/>
            <a:ext cx="29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Are you ready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um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. She took a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trip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o Florida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Be careful, or you will trip!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We planned our trip togeth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I trip over things very ofte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6680" y="480060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B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324480" y="4419720"/>
            <a:ext cx="24685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ornturck.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43000" y="457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. I turned on the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light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 I could see bett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The feather was very light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She wore light colors because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t was going to be a hot day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There is only one light in the living room.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30840" y="514656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553080" y="4419720"/>
            <a:ext cx="18068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3. Will you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chec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my answers for me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. Mom wrote a check for the fieldtrip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. I will check and see if the cat is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hous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. If you get a check it means the answer is wrong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30840" y="499428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B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72200" y="4000680"/>
            <a:ext cx="29718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llwr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4. Will you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show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me how to bake a pie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I want to show you my new toy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I went to the show with dad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My favorite television show is on tonight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78560" y="5070600"/>
            <a:ext cx="31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324480" y="3981600"/>
            <a:ext cx="25909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5. Mom put money into her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ban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ccount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A teller works at a bank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The river had a very high bank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59800" y="4917960"/>
            <a:ext cx="32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A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" descr="banking, bank teller"/>
          <p:cNvPicPr/>
          <p:nvPr/>
        </p:nvPicPr>
        <p:blipFill>
          <a:blip r:embed="rId1"/>
          <a:stretch/>
        </p:blipFill>
        <p:spPr>
          <a:xfrm>
            <a:off x="3759120" y="-4314960"/>
            <a:ext cx="121140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entrance to bank"/>
          <p:cNvPicPr/>
          <p:nvPr/>
        </p:nvPicPr>
        <p:blipFill>
          <a:blip r:embed="rId2"/>
          <a:stretch/>
        </p:blipFill>
        <p:spPr>
          <a:xfrm>
            <a:off x="3809880" y="-4314960"/>
            <a:ext cx="1143000" cy="982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767640" y="3657600"/>
            <a:ext cx="2376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6. Mary likes to come to my house and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play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with m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He starred in our class play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I like to play checker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My favorite play is "My Fair Lady."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59440" y="514656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B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31840" y="3094200"/>
            <a:ext cx="6880320" cy="671400"/>
            <a:chOff x="1131840" y="3094200"/>
            <a:chExt cx="6880320" cy="671400"/>
          </a:xfrm>
        </p:grpSpPr>
        <p:sp>
          <p:nvSpPr>
            <p:cNvPr id="119" name=""/>
            <p:cNvSpPr/>
            <p:nvPr/>
          </p:nvSpPr>
          <p:spPr>
            <a:xfrm>
              <a:off x="1131840" y="3094200"/>
              <a:ext cx="6880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1131840" y="3094200"/>
              <a:ext cx="6651720" cy="671400"/>
              <a:chOff x="1131840" y="3094200"/>
              <a:chExt cx="6651720" cy="671400"/>
            </a:xfrm>
          </p:grpSpPr>
          <p:sp>
            <p:nvSpPr>
              <p:cNvPr id="121" name=""/>
              <p:cNvSpPr/>
              <p:nvPr/>
            </p:nvSpPr>
            <p:spPr>
              <a:xfrm>
                <a:off x="1131840" y="3094200"/>
                <a:ext cx="6651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31840" y="3094200"/>
                <a:ext cx="665172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u="sng">
                    <a:solidFill>
                      <a:srgbClr val="ff33cc"/>
                    </a:solidFill>
                    <a:uFillTx/>
                    <a:latin typeface="Verdana"/>
                    <a:hlinkClick r:id="rId1"/>
                  </a:rPr>
                  <a:t>  </a:t>
                </a:r>
                <a:r>
                  <a:rPr b="0" lang="en-US" sz="3800" spc="-1" strike="noStrike">
                    <a:solidFill>
                      <a:srgbClr val="666666"/>
                    </a:solidFill>
                    <a:latin typeface="Verdana"/>
                  </a:rPr>
                  <a:t> </a:t>
                </a:r>
                <a:r>
                  <a:rPr b="0" lang="en-US" sz="800" spc="-1" strike="noStrike">
                    <a:solidFill>
                      <a:srgbClr val="666666"/>
                    </a:solidFill>
                    <a:latin typeface="Verdana"/>
                  </a:rPr>
                  <a:t>                        </a:t>
                </a:r>
                <a:endParaRPr b="0" lang="en-US" sz="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pic>
        <p:nvPicPr>
          <p:cNvPr id="12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77120" y="457200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hatsbet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5:00:49Z</dcterms:created>
  <dc:creator>Jefferson County Schools</dc:creator>
  <dc:description/>
  <dc:language>en-US</dc:language>
  <cp:lastModifiedBy> </cp:lastModifiedBy>
  <dcterms:modified xsi:type="dcterms:W3CDTF">2008-01-15T01:23:36Z</dcterms:modified>
  <cp:revision>11</cp:revision>
  <dc:subject/>
  <dc:title>Multiple Meaning Words</dc:title>
</cp:coreProperties>
</file>